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73A0-1123-4D87-9331-BB601D6B90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C28C-6B3F-46E4-914C-2E56B4AFC9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7649-B952-4243-B353-C2B14312590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84E7-C4FC-46AB-B82D-68F0E5AC06B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ED2-FD91-4610-9CEE-4C6B9F5A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AF4-3150-4422-9AA7-FB94BEF1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9CA8-88F4-4819-8AD3-939FD87C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004-7961-445E-AEC5-C7DA33F3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1474-BD62-45E9-8FAF-33D761C9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15E3-057F-4EAB-B12F-390253B2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1B07-B3B7-4A22-993E-BC9BB2F2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F850-1BB6-44B2-B9C8-B6F6D325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5A71-0014-422A-8E63-6E6F05AF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4C88-53FE-4936-A448-C2EAD633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A605-8381-4DEF-B225-03E9F1E9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AC8-A82F-4C23-B83C-DF420FFC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8C7E-2410-4F78-AB61-0C280AF5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D09A-901C-44DF-89E3-B1E1CEAC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EFF4-B44F-4DE0-A482-5A1DF1DB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0EC1-1A12-497F-95E6-4B337622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0096-381D-44A2-9937-F5A036F9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BFB35-DF22-4550-89EF-E3C9C05F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5855-9548-47FC-9C9D-C49EBDA8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F61E-BB54-4C76-B919-3842BC9A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9ED00-1B82-461F-878C-A9539431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0A956-64E3-44E6-B88E-31D4F6DA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49D-D392-4C70-844F-073968F4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AC95C-B4E5-4EEE-8FCB-7F4529C9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C1261-8F47-45D5-A76A-18304438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86864-977A-471C-B1A7-279D2658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41443-2E32-4BDD-B1CB-885FD359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75637-9463-48F5-B8DC-6E19D65F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52C7E-3935-4ABA-897F-1A9E8DFF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D750B-4927-40DE-A03F-C03522A9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1E9-854A-44F4-9F96-3E121479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CD5-2795-48E0-AD50-F7A4B75D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BDB-327B-4E1D-ACAB-997192B0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C41-97C2-4334-8AB5-4C42D9C1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E23-AB67-40AA-8B24-B00D16D7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81E-1084-4DAE-A771-EB53E1B7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D03F-9BE5-4B42-96D8-715C495543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4365-1096-46A4-AFD3-F1D1BBABF7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1151-CA3C-499C-9A48-E0EC2036F4F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78_&#1075;&#1086;&#1076;" TargetMode="External"/><Relationship Id="rId2" Type="http://schemas.openxmlformats.org/officeDocument/2006/relationships/hyperlink" Target="http://ru.wikipedia.org/wiki/&#1041;&#1077;&#1088;&#1085;&#1072;&#1088;,_&#1050;&#1083;&#1086;&#1076;" TargetMode="External"/><Relationship Id="rId3" Type="http://schemas.openxmlformats.org/officeDocument/2006/relationships/hyperlink" Target="http://ru.wikipedia.org/wiki/&#1057;&#1064;&#1040;" TargetMode="External"/><Relationship Id="rId4" Type="http://schemas.openxmlformats.org/officeDocument/2006/relationships/hyperlink" Target="http://ru.wikipedia.org/wiki/&#1060;&#1080;&#1079;&#1080;&#1086;&#1083;&#1086;&#1075;" TargetMode="External"/><Relationship Id="rId5" Type="http://schemas.openxmlformats.org/officeDocument/2006/relationships/hyperlink" Target="http://ru.wikipedia.org/wiki/&#1059;&#1086;&#1083;&#1090;&#1077;&#1088;_&#1050;&#1077;&#1085;&#1085;&#1086;&#1085;" TargetMode="External"/><Relationship Id="rId6" Type="http://schemas.openxmlformats.org/officeDocument/2006/relationships/hyperlink" Target="http://ru.wikipedia.org/wiki/1932_&#1075;&#1086;&#1076;" TargetMode="External"/><Relationship Id="rId7" Type="http://schemas.openxmlformats.org/officeDocument/2006/relationships/hyperlink" Target="http://ru.wikipedia.org/wiki/&#1055;&#1088;&#1086;&#1094;&#1077;&#1089;&#1089;" TargetMode="External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доровье как норма реакции на окружающую среду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Oval 4"/>
          <p:cNvSpPr/>
          <p:nvPr/>
        </p:nvSpPr>
        <p:spPr>
          <a:xfrm>
            <a:off x="1066680" y="2057400"/>
            <a:ext cx="1524240" cy="144792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львеоляр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озду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04920" y="3733920"/>
            <a:ext cx="4495680" cy="53316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лляры легких    О2 + Нв = Нв 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828800" y="3352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6019920" y="2819520"/>
            <a:ext cx="1523880" cy="14475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львеоляр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озду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419720" y="4648320"/>
            <a:ext cx="4343400" cy="198108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творенный в плазме крови СО2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гидрокарбона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Нв СО2 = Нв + С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лляры лег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6858000" y="41144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азообмен в легк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азообмен в тканях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1066680" y="2057400"/>
            <a:ext cx="1524240" cy="144792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канева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идк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304920" y="3733920"/>
            <a:ext cx="4495680" cy="190476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творенный в плазме крови СО2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бикарбона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Нв СО2 = Нв + С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лляры тка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828800" y="3352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Oval 7"/>
          <p:cNvSpPr/>
          <p:nvPr/>
        </p:nvSpPr>
        <p:spPr>
          <a:xfrm>
            <a:off x="6019920" y="2819520"/>
            <a:ext cx="1523880" cy="14475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канева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идк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4648320" y="4724280"/>
            <a:ext cx="4343400" cy="137160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вО2 = О2 + Н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лляры тка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9"/>
          <p:cNvSpPr/>
          <p:nvPr/>
        </p:nvSpPr>
        <p:spPr>
          <a:xfrm flipV="1">
            <a:off x="6858000" y="41144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ние легочной вентиляции на выделение СО2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2280" y="1405080"/>
          <a:ext cx="8763120" cy="5452920"/>
        </p:xfrm>
        <a:graphic>
          <a:graphicData uri="http://schemas.openxmlformats.org/drawingml/2006/table">
            <a:tbl>
              <a:tblPr/>
              <a:tblGrid>
                <a:gridCol w="3483000"/>
                <a:gridCol w="2467080"/>
                <a:gridCol w="2813040"/>
              </a:tblGrid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Уровень легоч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вентиля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Нару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Биохимические изме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Гиповентиляция 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dbbd71"/>
                          </a:solidFill>
                          <a:latin typeface="Tahoma"/>
                          <a:ea typeface="Arial"/>
                        </a:rPr>
                        <a:t>-задержка выделения</a:t>
                      </a: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dbbd71"/>
                          </a:solidFill>
                          <a:latin typeface="Tahoma"/>
                          <a:ea typeface="Arial"/>
                        </a:rPr>
                        <a:t>СО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при заболеваниях органов дыхания, интоксикаци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Дыхате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ацидоз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Умень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концентрации бикарбонатов, сдвиг рН крови в кислую строн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Гипервентиляция 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dbbd71"/>
                          </a:solidFill>
                          <a:latin typeface="Tahoma"/>
                          <a:ea typeface="Arial"/>
                        </a:rPr>
                        <a:t>Избыточное выделение</a:t>
                      </a: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dbbd71"/>
                          </a:solidFill>
                          <a:latin typeface="Tahoma"/>
                          <a:ea typeface="Arial"/>
                        </a:rPr>
                        <a:t>СО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(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ри интенсивной мышечной работе, восхождении на большие высот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Дыхательный алкало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Сдвиг рН крови в щелочную строну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400" y="417240"/>
            <a:ext cx="825804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воды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: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ойчивым системам необходимы комбинации из обоих типов обратной связи. Тогда как отрицательная обратная связь позволяет вернуться к гомеостатическому состоянию, положительная обратная связь используется для перехода к совершенно новому (и, вполне может быть, менее желанному) состоянию гомеостаза, — такая ситуация называется «метастабильность». 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апы превращения углеводов в организм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04920" y="1981080"/>
            <a:ext cx="281916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отовая пол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0880" y="3505320"/>
            <a:ext cx="281952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еч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5791320" y="2209680"/>
            <a:ext cx="11430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Line 11"/>
          <p:cNvSpPr/>
          <p:nvPr/>
        </p:nvSpPr>
        <p:spPr>
          <a:xfrm>
            <a:off x="5715000" y="3581280"/>
            <a:ext cx="121932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Line 12"/>
          <p:cNvSpPr/>
          <p:nvPr/>
        </p:nvSpPr>
        <p:spPr>
          <a:xfrm>
            <a:off x="5791320" y="4191120"/>
            <a:ext cx="11430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457200" y="5257800"/>
            <a:ext cx="281952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ышц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5181480" y="5715000"/>
            <a:ext cx="6858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5562720" y="541008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18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19"/>
          <p:cNvSpPr/>
          <p:nvPr/>
        </p:nvSpPr>
        <p:spPr>
          <a:xfrm>
            <a:off x="6324480" y="4038480"/>
            <a:ext cx="0" cy="1526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апы превращения углеводов в организм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228600" y="1752480"/>
            <a:ext cx="297180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1 группа – превращен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углеводов в ротов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пол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1.Сравните вкусов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ачества крахмала и глюкоз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2.Капните 1 каплю р-ра йод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на поверхность кусочка хлеб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акое вещество содержит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в хлебе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3.Наберите в пробирк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орцию слюны. Положит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в нее небольшое количест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рахмала, добавьте 1 каплю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р-ра йода. Нагрейте слег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(не более </a:t>
            </a: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37 С)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робирку с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орцией слюны.</a:t>
            </a: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ак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изменения в пробирк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роисходят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352680" y="1752480"/>
            <a:ext cx="281952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2 группа- превращ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углеводов в печен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Сделайте вывод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Многочисленные анализ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рови показали, что посл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ормления у животны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(человека) в воротной в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ечени (сосуд, приносящ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ровь в печень из орган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ищеварения) содержит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0,3%, а в нижней пол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вене(сосуд, выносящ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ровь из печени) 0,12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глюкоз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6324480" y="1752480"/>
            <a:ext cx="281952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3 группа –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превращ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углеводов в мышца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Решите задачу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Сколько глюкоз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одверглос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окислению, есл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организ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израсходовал 200 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ислорода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Сколько энерги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выделилось 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рассчитанную масс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глюкозы, если 1 мо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глюкозы дает 152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Дж энергии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апы превращения углеводов в организм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304920" y="1981080"/>
            <a:ext cx="281916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отовая пол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685800" y="1219320"/>
            <a:ext cx="2057400" cy="685800"/>
          </a:xfrm>
          <a:prstGeom prst="downArrowCallout">
            <a:avLst>
              <a:gd name="adj1" fmla="val 75007"/>
              <a:gd name="adj2" fmla="val 7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ищ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886200" y="1295280"/>
            <a:ext cx="4876920" cy="12956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Ферменты слю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Крахмал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люк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3200400" y="2209680"/>
            <a:ext cx="609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80880" y="3505320"/>
            <a:ext cx="281952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еч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3962520" y="2971800"/>
            <a:ext cx="4876560" cy="14479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нсул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люкоза                         Гликог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дренал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ликоген                       Глюк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5791320" y="2209680"/>
            <a:ext cx="11430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5715000" y="3581280"/>
            <a:ext cx="121932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5791320" y="4191120"/>
            <a:ext cx="11430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3276720" y="3809880"/>
            <a:ext cx="609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17"/>
          <p:cNvSpPr/>
          <p:nvPr/>
        </p:nvSpPr>
        <p:spPr>
          <a:xfrm>
            <a:off x="457200" y="5257800"/>
            <a:ext cx="281952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ышц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18"/>
          <p:cNvSpPr/>
          <p:nvPr/>
        </p:nvSpPr>
        <p:spPr>
          <a:xfrm>
            <a:off x="3962520" y="4876920"/>
            <a:ext cx="4876560" cy="1295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р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люкоза             углекислый газ, в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5181480" y="5715000"/>
            <a:ext cx="6858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5562720" y="541008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22"/>
          <p:cNvSpPr/>
          <p:nvPr/>
        </p:nvSpPr>
        <p:spPr>
          <a:xfrm>
            <a:off x="6324480" y="4038480"/>
            <a:ext cx="0" cy="1526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23"/>
          <p:cNvSpPr/>
          <p:nvPr/>
        </p:nvSpPr>
        <p:spPr>
          <a:xfrm>
            <a:off x="3352680" y="5562720"/>
            <a:ext cx="60984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52280" y="457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данным Всемирной организации здравоохранения, среди химических соединений, используемых в промышленном масштабе, примерно 40 тыс.  вредны для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228600" y="259092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хронических отравлениях ртутью наблюдаются признаки поражения ЦНС, эмоциональная неустойчивость, нарушение сна, головные боли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80880" y="43434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одуктах сгорания бензина 90% приходится на содержание свинца, который поступая в организм через кожу и слизистые, а также с пищей, водой, через дыхательные пути и пищеварительный тракт, вызывает поражение нервной и кровеносной систем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685800" y="804240"/>
            <a:ext cx="7661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№1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ельная сжигает в сутки  10т угля, содержащего 84% углерода, 5% водорода, 3,5% серы,   5% воды и 2,5% негорючих примесей. Рассчитайте  расход кислорода воздуха на сжигание углерода-основного компонента угля (учитывать два возможных случая горения углерода с образованием  угарного газа и углекислого газ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533520" y="901080"/>
            <a:ext cx="749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№2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диусе 5 км вокруг химического завода ощущается легкий запах сероводорода.  Анализ проб воздуха показал, что газ распространяется на высоту до 2 км, служит причиной образования кислотных дождей. Рассчитайте, сколько сернистого газа (оксида серы (4) ) получится в результате взаимодействия 0.01л сероводорода с кислородом воздуха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533520" y="685800"/>
            <a:ext cx="82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 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едостаток соли в организме может привести к головокружению, обмороку, нарушению сердечной деятельности, снижению аппетита, уменьшению количества воды в крови и орган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едостаток белков приводит к задержке роста, малокровию, выпадению воло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275120" y="0"/>
            <a:ext cx="72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читайте текс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ой вывод вы можете сделать на основе прочитанного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04920" y="2438280"/>
            <a:ext cx="84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 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Чрезмерное потребление соли вредно для здоровья – нарушается деятельность сердца, почек, появляются отеки ног, повышается кровяное давл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28600" y="3471120"/>
            <a:ext cx="860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 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тдельные клетки и группы клеток человеческого организма чрезвычайно чувствительны к изменению окружающей их среды. Что же касается целого организма, то границы изменений  внешней среды, которые он может переносить, значительно шире, чем у отдельных клеток. Клетки человека нормально функционируют лишь при температуре 36-380 С. Повышение или снижение температуры за пределы этих границ приводит к нарушению функций клеток. Человек может нормально существовать при значительно более широких колебаниях температуры внешней среды. В клетках поддерживается постоянное количество воды и минеральных веществ. Организм же может переносить и водное голодание, и избыточное поступление воды и соле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609480" y="-2167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№3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анализируйте таблицу «Выбросы  ( в тыс.т./ год) в атмосферу города с населением  1млн. человек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80880" y="1371600"/>
          <a:ext cx="8217000" cy="4022640"/>
        </p:xfrm>
        <a:graphic>
          <a:graphicData uri="http://schemas.openxmlformats.org/drawingml/2006/table">
            <a:tbl>
              <a:tblPr/>
              <a:tblGrid>
                <a:gridCol w="6472440"/>
                <a:gridCol w="1744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гредиенты  атмосферных выб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лекислый г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ы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ческие вещества ( фенол, бензол, спирты, растворител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анистый кал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единения   свин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ту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арный г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шья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Rectangle 139"/>
          <p:cNvSpPr/>
          <p:nvPr/>
        </p:nvSpPr>
        <p:spPr>
          <a:xfrm>
            <a:off x="457200" y="540900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Сделайте расчеты выбросов в атмосферу нашего города с населением…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делайте вывод, могут ли выбросы загрязняющих веществ в атмосферу оставлять « свой след на земл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доровье – это не только отсутствие болезней и физических недостатков. Это состояние полного физического, психологического и социального комфорта.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Мощность техногенного воздействия на живую природу достигла такой величины, что возникла опасность необратимых изменений за счет нарушения слагавшихся в течение миллионов лет природных динамических равновесий, в том числе и гомеостаз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собность биологических систем противостоять изменениям и сохранять динамическое относительное постоянство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а и свойств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239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ГОМЕОСТА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io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греч) – подобный, одинаков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si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греч.) – неподвижность, состоя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2600" y="428760"/>
            <a:ext cx="7815240" cy="5929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ако представление о постоянстве внутренней среды было сформулировано ещё в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1878 год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французским учёным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Клодом Бернаром</a:t>
            </a:r>
            <a:br>
              <a:rPr sz="3200"/>
            </a:b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Американский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физиолог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5"/>
              </a:rPr>
              <a:t>Уолтер Кеннон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(Walter B. Cannon) в </a:t>
            </a: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6"/>
              </a:rPr>
              <a:t>1932 году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в своей книге «The Wisdom of the Body» («Мудрость тела») предложил этот термин как название для «координированных физиологических </a:t>
            </a: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7"/>
              </a:rPr>
              <a:t>процессов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которое поддерживают большинство устойчивых состояний организма».</a:t>
            </a:r>
            <a:endParaRPr b="0" lang="en-US" sz="29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ханизмы гомеостаз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гда происходит изменение в переменных, наблюдаются два основных типа обратной связи, или фидбэка, на которые реагирует систем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араметрам гомеостаза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же относится химический состав крови, влажность кожи, состав суставной жидкости, ритмы сердечных сокращений, кислотно-щелочной баланс, осмотическое давление, соотношение электролитов (натрия, кальция, хлора, магния, фосфора), содержания глюкозы, числа форменных элементов крови и другие параметры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Отрицательная обратная связь, выражающаяся в реакции, при которой система отвечает так, чтобы изменить направление изменения на противоположное. Так как обратная связь служит сохранению постоянства системы, это позволяет соблюдать гомеостаз.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*Например, когда концентрация углекислого газа в организме человека увеличивается, лёгким приходит сигнал к увеличению их активности и выдыханию большего количество углекислого газа.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*Терморегуляция — другой пример отрицательной обратной связи. Когда температура тела повышается (или понижается) терморецепторы в коже и гипоталамусе регистрируют изменение, вызывая сигнал из мозга. Данный сигнал, в свою очередь, вызывает ответ — понижение температуры (или повышение). 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ительная обратная связь, которая выражается в усилении изменения переменной. Она оказывает дестабилизирующий эффект, поэтому не приводит к гомеостазу. Положительная обратная связь реже встречается в естественных системах, но также имеет своё применени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Например, в нервах пороговый электрический потенциал вызывает генерацию намного большего потенциала действия. Свёртывание крови и события при рождении можно привести в качестве других примеров положительной обратной связи.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8T13:49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